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33E-FC57-4D9C-89DA-E2F57ED2F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9F5-43C0-4AA1-B925-25A5AC47C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91B-1F21-4F96-A662-29B01FB28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4D9A-4DA5-4817-9508-ECDF70170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0C00-3266-449C-A4EA-3F19833BD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0F91-4500-4782-B7DD-B83161BE1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7EE4-4356-4613-B638-4E38A5CF8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6CF-E070-4A43-9616-EE0DB1D91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3BCE-95CA-41F0-A633-E710B28F6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670-9ACF-4DC0-B625-AB2B61B46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A8B-6DE0-4B5C-B064-C9CC18EF6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427-3C79-49B0-87B9-96DF6556D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1714680" y="35712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10101"/>
                </a:solidFill>
                <a:latin typeface="Arial"/>
              </a:rPr>
              <a:t>Dealing with change and cop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786200" y="2286000"/>
            <a:ext cx="40006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4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To be familiar with the practices at your new school and be able to suggest methods of coping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4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To meet and work with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oa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5520" y="1214280"/>
            <a:ext cx="5143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last challenge is to set yourself a goal for thi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ould be joining a new club, learning the names of all your teachers,              finding your way                around school                     or just being                           strong enough                              to 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football.gif"/>
          <p:cNvPicPr/>
          <p:nvPr/>
        </p:nvPicPr>
        <p:blipFill>
          <a:blip r:embed="rId1"/>
          <a:stretch/>
        </p:blipFill>
        <p:spPr>
          <a:xfrm>
            <a:off x="3786120" y="2928960"/>
            <a:ext cx="1943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2057400" y="6094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a2907"/>
                </a:solidFill>
                <a:latin typeface="Arial"/>
              </a:rPr>
              <a:t>Presentation by W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4290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a2907"/>
                </a:solidFill>
                <a:latin typeface="Arial"/>
              </a:rPr>
              <a:t>What’s PSHE all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49291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Lots of discu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But you will need to do some writing so we each have a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For homework you are going to decorate your folder with things abo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This could be family photos, hobbies, interest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Write this in your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1643040" y="285840"/>
            <a:ext cx="3995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a2907"/>
                </a:solidFill>
                <a:latin typeface="Arial"/>
              </a:rPr>
              <a:t>Links of Friendship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785880" y="1428840"/>
            <a:ext cx="49291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On your sheet is a grid of qualities that people ma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Your job is to find someone who fits into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You can only use each person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tickman_holding_chain_links_hg_clr.gif"/>
          <p:cNvPicPr/>
          <p:nvPr/>
        </p:nvPicPr>
        <p:blipFill>
          <a:blip r:embed="rId2"/>
          <a:stretch/>
        </p:blipFill>
        <p:spPr>
          <a:xfrm>
            <a:off x="3214800" y="3929040"/>
            <a:ext cx="2200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5520" y="999720"/>
            <a:ext cx="50720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you do something for th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ime, it is natural to look forward to it and feel anxious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id you feel when you moved from infants to juni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think are the main problems about coming to a new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a partner th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eling nerv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5520" y="1143000"/>
            <a:ext cx="507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best ways of coping with feeling nervous about being at a new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thought bubbles on your sheet, try to come up with some strategie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question_hg_clr.gif"/>
          <p:cNvPicPr/>
          <p:nvPr/>
        </p:nvPicPr>
        <p:blipFill>
          <a:blip r:embed="rId1"/>
          <a:stretch/>
        </p:blipFill>
        <p:spPr>
          <a:xfrm>
            <a:off x="2143080" y="35244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inking.gif"/>
          <p:cNvPicPr/>
          <p:nvPr/>
        </p:nvPicPr>
        <p:blipFill>
          <a:blip r:embed="rId1"/>
          <a:stretch/>
        </p:blipFill>
        <p:spPr>
          <a:xfrm>
            <a:off x="3071880" y="357120"/>
            <a:ext cx="2643120" cy="6046920"/>
          </a:xfrm>
          <a:prstGeom prst="rect">
            <a:avLst/>
          </a:prstGeom>
          <a:ln w="0">
            <a:noFill/>
          </a:ln>
        </p:spPr>
      </p:pic>
      <p:sp>
        <p:nvSpPr>
          <p:cNvPr id="92" name="Cloud Callout 5"/>
          <p:cNvSpPr/>
          <p:nvPr/>
        </p:nvSpPr>
        <p:spPr>
          <a:xfrm>
            <a:off x="357120" y="571680"/>
            <a:ext cx="2857680" cy="2143080"/>
          </a:xfrm>
          <a:prstGeom prst="cloudCallout">
            <a:avLst>
              <a:gd name="adj1" fmla="val 64259"/>
              <a:gd name="adj2" fmla="val 721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rn the layout of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 Callout 6"/>
          <p:cNvSpPr/>
          <p:nvPr/>
        </p:nvSpPr>
        <p:spPr>
          <a:xfrm>
            <a:off x="5643720" y="500040"/>
            <a:ext cx="2857320" cy="2143080"/>
          </a:xfrm>
          <a:prstGeom prst="cloudCallout">
            <a:avLst>
              <a:gd name="adj1" fmla="val -49560"/>
              <a:gd name="adj2" fmla="val 8334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sk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Callout 7"/>
          <p:cNvSpPr/>
          <p:nvPr/>
        </p:nvSpPr>
        <p:spPr>
          <a:xfrm>
            <a:off x="357120" y="3357720"/>
            <a:ext cx="2857680" cy="2143080"/>
          </a:xfrm>
          <a:prstGeom prst="cloudCallout">
            <a:avLst>
              <a:gd name="adj1" fmla="val 76259"/>
              <a:gd name="adj2" fmla="val -2040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things slowly, don’t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 Callout 8"/>
          <p:cNvSpPr/>
          <p:nvPr/>
        </p:nvSpPr>
        <p:spPr>
          <a:xfrm>
            <a:off x="5643720" y="3571920"/>
            <a:ext cx="2857320" cy="2143080"/>
          </a:xfrm>
          <a:prstGeom prst="cloudCallout">
            <a:avLst>
              <a:gd name="adj1" fmla="val -65925"/>
              <a:gd name="adj2" fmla="val -359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y out new things, e.g. lunch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857760" y="857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1400" y="27432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am I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5520" y="1928520"/>
            <a:ext cx="514332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your school plan, try to colour in all the rooms that you will have lesson in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map2.gif"/>
          <p:cNvPicPr/>
          <p:nvPr/>
        </p:nvPicPr>
        <p:blipFill>
          <a:blip r:embed="rId1"/>
          <a:stretch/>
        </p:blipFill>
        <p:spPr>
          <a:xfrm>
            <a:off x="2571840" y="3214800"/>
            <a:ext cx="231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421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’s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5520" y="1285920"/>
            <a:ext cx="5143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need to know who’s who in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see what we know al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teacher_spinning_globe_hg_clr.gif"/>
          <p:cNvPicPr/>
          <p:nvPr/>
        </p:nvPicPr>
        <p:blipFill>
          <a:blip r:embed="rId1"/>
          <a:stretch/>
        </p:blipFill>
        <p:spPr>
          <a:xfrm>
            <a:off x="2286000" y="278604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have I done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040" y="1714680"/>
            <a:ext cx="55008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our target for today was :        </a:t>
            </a:r>
            <a:r>
              <a:rPr b="0" lang="en-GB" sz="2600" spc="-1" strike="noStrike">
                <a:solidFill>
                  <a:srgbClr val="c00000"/>
                </a:solidFill>
                <a:latin typeface="Arial"/>
              </a:rPr>
              <a:t>“to be able to recognise strong emotions and identify ways of managing these positively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sh the following sent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rting a new school has made me feel.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can help myself to cope in my new surrounding by..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9:43:00Z</dcterms:created>
  <dc:creator>Esther Maple</dc:creator>
  <dc:description/>
  <dc:language>en-US</dc:language>
  <cp:lastModifiedBy>User</cp:lastModifiedBy>
  <dcterms:modified xsi:type="dcterms:W3CDTF">2014-10-01T23:44:06Z</dcterms:modified>
  <cp:revision>30</cp:revision>
  <dc:subject/>
  <dc:title>Slide 1</dc:title>
</cp:coreProperties>
</file>